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9BF-ED94-4BDA-9115-389EAC54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ABD-36EF-49D0-B971-3254B2FE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C1E-E152-4267-8E5B-C01DE21C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3F7-405C-4619-88FB-481FD9FC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999-9094-439B-95E7-68643123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58B-3B39-41A5-A0D1-1190D4BF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239-84C0-461F-B57D-5C9A2648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0BC-245E-4412-8B13-BC552DC8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9D2-AA52-4B15-9C52-6387ACC0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85F-6353-4FCB-B8F4-87CAEBE6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8DA-728A-4710-AFE4-0425BC9A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C31-E46E-4A38-A6A0-7CFDADC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4658-3086-4267-A73D-2757D74A762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3357720"/>
            <a:ext cx="4284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ar-SA" sz="7200" spc="-1" strike="noStrike">
                <a:solidFill>
                  <a:srgbClr val="000000"/>
                </a:solidFill>
                <a:latin typeface="Tahoma"/>
                <a:cs typeface="????Boutros Rokaa"/>
              </a:rPr>
              <a:t>خبز  وخمر  وم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0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نعمه لِلكلّ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جسم ودِما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 الارض بتضلّ عُربون السما</a:t>
            </a:r>
            <a:r>
              <a:rPr b="1" lang="ar-SA" sz="90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200" y="1903320"/>
            <a:ext cx="90378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ربّي يس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صَوبَك دَربي طْل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م بعْطَش وبْجُ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عطيني ال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760"/>
            <a:ext cx="9144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يا سنابل وسهول تبقي ملياني يا بيادر وحقول تبقي حِليان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52640"/>
            <a:ext cx="9144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مطاحن بتدور بتْطَعمي المعمور خبز ونار ونور أطيب قرب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179280" y="536400"/>
            <a:ext cx="5545080" cy="28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يا عْناقيد النور بكروم الد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1826280" y="0"/>
            <a:ext cx="9932760" cy="367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يا مواسِم ودهو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فيك بتغتني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0" y="1916280"/>
            <a:ext cx="493236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معصرة الدار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سرّ الأسرار خمر ونور ونار كاسة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-</cp:lastModifiedBy>
  <dcterms:modified xsi:type="dcterms:W3CDTF">2003-01-19T17:17:20Z</dcterms:modified>
  <cp:revision>16</cp:revision>
  <dc:subject/>
  <dc:title>PowerPoint Presentation</dc:title>
</cp:coreProperties>
</file>